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649-B9FB-490C-97A9-E4DF87B0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610-F696-419A-B7DD-493015E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727-4871-46A7-950E-FC9A2C7D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7B8-2967-41A7-9E68-42CC98A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5A18-71CF-4654-8C85-8F011B68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9584-D4C2-4F54-841D-9CBEA4B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48B8-BA49-4B8E-986D-F102B319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4E2-7397-45C6-9980-56F0A2E2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129D-FB77-43EF-9A28-4AAFFEE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ADE8-3E35-4CA8-BF31-A7AA762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F789-F76E-4ECB-8488-DC8DD8A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23B-95D5-4549-B132-6B726D2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D7BD-571F-4A48-959E-49ECF3B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3036-B61A-4C46-9D7A-04B0E3B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ECD-99E5-4CE8-8409-CD937C3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6C9-70D1-4D0A-9CDC-84834C20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552-710D-4367-927A-FD406DB1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E50-7042-4CEE-8037-42008E3C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30B-134E-4733-9AF8-64771A6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157-A2E1-4D0B-A555-3B22802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D34-5F75-4043-9A36-D430DDEA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FB4-040A-42E5-B9E5-A987269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2A7-7532-40CC-9489-55B28AD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17D-AFD9-4C0D-B56E-7F812B7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5D44-0C9A-4291-B07B-FEDF37F920B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6D48-056D-4AC8-A3F9-E5E6E3B941F5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 Mathe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his number increased by seventy is two hundred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fo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his number decreased by one hundred thirty-nine is twenty-six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-f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his number increased by forty is ninety-eight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BONUS!! This number decreased by four hundred two AND one hundred is three hundred elev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hundred thir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his number decreased by two is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his number decreased by twelve is twelv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his number increased by fourteen is thirty-fou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his number decreased by five hundred seven is two hundred fif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hundred fifty-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his number increased by three hundred forty is seven hundred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BONUS!! This number increased by one hundred fifty-two AND four hundred forty three is nine hundred thir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thirty-s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his number increased by two hundred seventy-one is six hundred for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-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This number decreased by three is fif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f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his number decreased by two hundred thirty-nine is six hundred fourte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hundred fifty-t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his number increased by five is t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his number increased by three is six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y-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his number decreased by eighty-three is eighty-on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-f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his number increased by one hundred thirteen is four hundred ninety-tw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hundred seventy-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his number decreased by nineteen is sixtee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ty-f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his number decreased by eighty is eighty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undred six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his number increased by fifty-nine is seventy-fiv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slamb</cp:lastModifiedBy>
  <dcterms:modified xsi:type="dcterms:W3CDTF">2009-05-07T02:37:47Z</dcterms:modified>
  <cp:revision>7</cp:revision>
  <dc:subject/>
  <dc:title>Twenty Questions </dc:title>
</cp:coreProperties>
</file>